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54490"/>
        <c:axId val="89020918"/>
      </c:barChart>
      <c:catAx>
        <c:axId val="39054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20918"/>
        <c:crosses val="autoZero"/>
        <c:auto val="1"/>
        <c:lblAlgn val="ctr"/>
        <c:lblOffset val="100"/>
        <c:noMultiLvlLbl val="0"/>
      </c:catAx>
      <c:valAx>
        <c:axId val="89020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54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81F-46C0-431A-81F8-05D3765D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FE5-964C-46B7-BEAE-55C5A4D9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339-2812-494B-8057-D7B23270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A0E-4B94-46C0-A258-3FF72C85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6C5-9C20-4523-A3AC-8D2C13C5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6A4-99BA-4677-A53F-8C3A7D67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CDF-1F76-400D-BE45-1933B0A3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B02-3390-4C42-BC78-1E8664F0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F80-6E47-46B4-969B-DD4473A1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021-5A65-49B1-90D4-540773C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4D6-D8A7-4E4F-B53E-35C58176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56A-EA56-45F4-AFE4-CC9C078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A61E5-7032-499C-8819-FF125B142F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