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59081"/>
        <c:axId val="25476308"/>
      </c:barChart>
      <c:catAx>
        <c:axId val="17059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76308"/>
        <c:crosses val="autoZero"/>
        <c:auto val="1"/>
        <c:lblAlgn val="ctr"/>
        <c:lblOffset val="100"/>
        <c:noMultiLvlLbl val="0"/>
      </c:catAx>
      <c:valAx>
        <c:axId val="25476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59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8C5-D157-4C4B-8075-E00FE7EF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4D1-97B9-4940-99DC-A7F1F086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5F1-050F-4332-8D6F-59E3AB66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B7B-89A5-40C9-A4D1-A07B56FB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7E5-AA21-4F0B-BCBD-9C97ED4E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FDA-B08A-4DC3-A578-D80CD468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246-96E6-4415-A9F5-25DD9A27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D18-7841-42C1-B70F-FF259B6B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3E3-FAA7-4985-A50D-D43DB119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8A2-2DCF-40A5-A048-B24CE5B6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A43-961C-464F-80A4-22C839D9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404-62ED-4E36-BA7E-7028FF24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A719B-CBEE-489F-BA91-EEFBB042EC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