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6516"/>
        <c:axId val="63060349"/>
      </c:barChart>
      <c:catAx>
        <c:axId val="7516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60349"/>
        <c:crosses val="autoZero"/>
        <c:auto val="1"/>
        <c:lblAlgn val="ctr"/>
        <c:lblOffset val="100"/>
        <c:noMultiLvlLbl val="0"/>
      </c:catAx>
      <c:valAx>
        <c:axId val="63060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6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60F-860F-45B4-996B-3FA7E93B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CD8-9C80-4909-815E-5BC57154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D0D-294D-4271-8BFE-7801D3B4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37E-8B55-421F-BB10-112815D4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9CE-5B16-487B-B17C-9DABB62D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DE1-9A2E-42D6-ABB9-43E25AB9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A5C-9528-41B5-BAA8-D4D2C0CC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AE2-D338-40B6-AE06-D6B1EBB2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FC7-9725-47BF-AC2B-268BBAF2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603-FA42-4CA2-95E8-E0493034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7E6-3DAA-4BFE-8682-8142FFFA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1C3-8763-4B39-8DAE-27D6787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BE884-EE72-4757-9475-5B8C05CD39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