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61701"/>
        <c:axId val="35206721"/>
      </c:barChart>
      <c:catAx>
        <c:axId val="34561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6721"/>
        <c:crosses val="autoZero"/>
        <c:auto val="1"/>
        <c:lblAlgn val="ctr"/>
        <c:lblOffset val="100"/>
        <c:noMultiLvlLbl val="0"/>
      </c:catAx>
      <c:valAx>
        <c:axId val="35206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61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67A-7310-4527-9BAB-0ED25A05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F61-C3F6-4160-B6B2-43CDE63D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684-F249-48F4-A3E1-A2247736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906-E57E-44F6-A01C-B0396422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C1A-930E-4657-A490-1FA1AFA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9D8-E32A-4714-A567-CA6A855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B71-0A00-4421-AB32-5DC12714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741-3DEF-409D-952F-F0B9B7B3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688-F956-4FE1-9E83-15FCCC3A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2D9-E032-469E-AC56-F899C65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7BC-5859-463C-9F81-B69EBF0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51F-38E0-4349-9D4D-17A1DA6E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78FA5-1DED-4EB1-B3FF-FC996D006E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